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DDB-3A97-4767-9381-82160ECE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475-BA3D-47AE-9D80-DA66895E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B71-EC1C-4869-8536-8BFEC45A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F65-2B06-4087-AF07-F73B31C3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9BD-3530-4FE2-83F0-98240C6D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5B1-DA79-4EE1-B232-B9527B9B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0CF-0340-4896-A148-9824C7F3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1C0-2B09-4D4C-91B5-1E94317D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C18-833F-49EA-9416-3A240BA5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F92-3796-43D8-9A14-AA6816CA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3A0-8394-498D-976F-6DEA33AA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C20-3EBD-43BD-9846-CD9D7606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9330-D90F-48CC-863D-CE0C3C633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765000"/>
            <a:ext cx="1511280" cy="432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0000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4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83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125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83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83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 m.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14842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m.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989000"/>
            <a:ext cx="503280" cy="2016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sl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413000"/>
            <a:ext cx="151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59280" y="2565000"/>
            <a:ext cx="1800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1413000"/>
            <a:ext cx="1511640" cy="4316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3716280"/>
            <a:ext cx="3384720" cy="574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1844640"/>
            <a:ext cx="503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148428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á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5227920" y="1909440"/>
            <a:ext cx="19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sl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0000" y="3933720"/>
            <a:ext cx="57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cu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9:30:45Z</dcterms:created>
  <dc:creator>egarcia</dc:creator>
  <dc:description/>
  <dc:language>en-US</dc:language>
  <cp:lastModifiedBy>egarcia</cp:lastModifiedBy>
  <dcterms:modified xsi:type="dcterms:W3CDTF">2009-08-11T09:38:18Z</dcterms:modified>
  <cp:revision>2</cp:revision>
  <dc:subject/>
  <dc:title>Diapositiva 1</dc:title>
</cp:coreProperties>
</file>