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E37A-B825-4709-89BD-50CFAE13E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FBC5-2CA9-4D54-BAE8-D61BC2C5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84A5-3E99-4481-86A8-674757FD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054D-A6AE-4C12-905D-1B1B4C07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6349-D9DF-4D19-BCCA-8EFC0723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6255-4253-4788-88F0-DD40634D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E511-BC36-4B72-9668-2748A831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9318-7BCE-4122-8EF0-8F2D607F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4D91-DCAB-401A-9B24-A671AC63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CAD8-F3A5-4506-8B7B-064A432C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236E-3F54-4F3E-ABD0-8E457C50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BAB9-BE45-4FDC-876C-CD40FD92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1948-CF30-45A4-84CC-675011AE2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765000"/>
            <a:ext cx="1511280" cy="4320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1128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1413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836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1125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56000" y="83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83664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 m.m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1484280"/>
            <a:ext cx="108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 m.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1989000"/>
            <a:ext cx="503280" cy="20163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8000" y="285264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sl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48000" y="1413000"/>
            <a:ext cx="151128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059280" y="2565000"/>
            <a:ext cx="180000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4000" y="1413000"/>
            <a:ext cx="1511640" cy="431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3716280"/>
            <a:ext cx="3384720" cy="574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0360" y="1844640"/>
            <a:ext cx="50328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2000" y="148428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á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5227920" y="1909440"/>
            <a:ext cx="194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isla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0000" y="3933720"/>
            <a:ext cx="578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scu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1672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84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09:30:45Z</dcterms:created>
  <dc:creator>egarcia</dc:creator>
  <dc:description/>
  <dc:language>en-US</dc:language>
  <cp:lastModifiedBy>egarcia</cp:lastModifiedBy>
  <dcterms:modified xsi:type="dcterms:W3CDTF">2009-08-11T09:38:18Z</dcterms:modified>
  <cp:revision>2</cp:revision>
  <dc:subject/>
  <dc:title>Diapositiva 1</dc:title>
</cp:coreProperties>
</file>