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07D-A204-4E74-9ACF-2CE062BF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2E6-6F73-4440-B6E8-259E8869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2D3-5FD0-45B0-9A93-60816E8C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2E5-18FD-4D91-A9D0-2AF5F273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6D9-4199-4055-B2B8-6327798A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AFE-C3D0-4750-898B-B1D3122E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084-B0BC-49A1-B0EE-E57C7F0A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697-DF20-480D-BD8C-C73AFD06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2FE-9229-4C6D-9445-EF2D6B21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42F-0AF2-42DA-B728-86A69031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FD6-9517-4F62-9ADE-9C9172B0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81B-E860-4EED-A5CC-D8426F96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396E-AF44-4576-8E76-990D182DD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765000"/>
            <a:ext cx="151128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4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83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12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83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83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.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4842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m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989000"/>
            <a:ext cx="503280" cy="201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413000"/>
            <a:ext cx="151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256500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413000"/>
            <a:ext cx="151164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16280"/>
            <a:ext cx="338472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844640"/>
            <a:ext cx="503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227920" y="1909440"/>
            <a:ext cx="19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sl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000" y="393372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cu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9:30:45Z</dcterms:created>
  <dc:creator>egarcia</dc:creator>
  <dc:description/>
  <dc:language>en-US</dc:language>
  <cp:lastModifiedBy>egarcia</cp:lastModifiedBy>
  <dcterms:modified xsi:type="dcterms:W3CDTF">2009-08-11T09:38:18Z</dcterms:modified>
  <cp:revision>2</cp:revision>
  <dc:subject/>
  <dc:title>Diapositiva 1</dc:title>
</cp:coreProperties>
</file>