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5B5-4B9C-44E8-AA38-3395F532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9E5-79B9-4F8B-84AC-21224E85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365-6913-4F11-AB7C-23895B8C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EF1-E3A8-418B-A3A3-7E135ECA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19F-DC2E-4003-850D-91C2AC54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321-3FAC-421D-902A-C8EA93A0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029-71A8-4836-AB4E-DB2FEAD5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950-8A36-4769-A2B7-375B278D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5A6-6AB0-474D-B926-B94FFDBC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B4DF-BAA6-447B-8E29-8CD877E9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99C-8F22-4D4D-B72D-738E016E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879-305E-4983-8432-A98BFC77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E29E-B6EB-423E-A007-3B6442995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765000"/>
            <a:ext cx="151128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41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83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112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83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83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m.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4842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m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1989000"/>
            <a:ext cx="503280" cy="201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2852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l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413000"/>
            <a:ext cx="1511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59280" y="2565000"/>
            <a:ext cx="1800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1413000"/>
            <a:ext cx="151164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716280"/>
            <a:ext cx="3384720" cy="57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1844640"/>
            <a:ext cx="5032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48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á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5227920" y="1909440"/>
            <a:ext cx="19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isl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000" y="393372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cu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1672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84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9:30:45Z</dcterms:created>
  <dc:creator>egarcia</dc:creator>
  <dc:description/>
  <dc:language>en-US</dc:language>
  <cp:lastModifiedBy>egarcia</cp:lastModifiedBy>
  <dcterms:modified xsi:type="dcterms:W3CDTF">2009-08-11T09:38:18Z</dcterms:modified>
  <cp:revision>2</cp:revision>
  <dc:subject/>
  <dc:title>Diapositiva 1</dc:title>
</cp:coreProperties>
</file>