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D31-BDE9-4D76-9E3B-9A0C47E8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A2B-14BE-4AB4-B18E-6F0851FD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75A-D892-4883-8FBF-7423E859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718-3759-40DB-B867-468F4EED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202-A8FE-4ED3-9C26-6CC94D26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CD1-BBF5-47A3-ABE2-F88E6291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A0F-E62E-4463-A1B1-79620E5F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0AE-5431-4F72-959F-CF7F97B0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F33-A75D-441B-A566-7CC807F6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178-BDB3-4AFD-A645-21F9C355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689-394E-47E2-BB93-AC144A90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9B0-5284-44B3-A8E0-A0585D8A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82BC-6E57-4304-811B-0B7743B7C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765000"/>
            <a:ext cx="151128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4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83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12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83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83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.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4842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m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989000"/>
            <a:ext cx="503280" cy="201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413000"/>
            <a:ext cx="151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256500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413000"/>
            <a:ext cx="151164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16280"/>
            <a:ext cx="338472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844640"/>
            <a:ext cx="503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227920" y="1909440"/>
            <a:ext cx="19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sl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000" y="393372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cu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9:30:45Z</dcterms:created>
  <dc:creator>egarcia</dc:creator>
  <dc:description/>
  <dc:language>en-US</dc:language>
  <cp:lastModifiedBy>egarcia</cp:lastModifiedBy>
  <dcterms:modified xsi:type="dcterms:W3CDTF">2009-08-11T09:38:18Z</dcterms:modified>
  <cp:revision>2</cp:revision>
  <dc:subject/>
  <dc:title>Diapositiva 1</dc:title>
</cp:coreProperties>
</file>