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B4A8-433F-4FA2-9248-D370134E8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04D5-6C40-4547-BDF8-7D42AF34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C799-FF68-4D8F-9466-90C16869D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1A5F-1D1E-4A07-914C-7685EA8E3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4EE0-C322-4577-A094-4CB496D5C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156E-F4A2-47CB-927B-F66F65EA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05FD-A2FE-45E4-8B85-438DD55E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BD4F-18BA-4CE9-9D19-4EB48FC3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B5FC-E79F-4E0B-B3FE-60F93F40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91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F07F-1E18-45E1-9E01-BC7274AC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7DCD-9392-4BDF-8114-0FA80A0F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5029-E33B-46C2-8E2D-C18C26DE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8392-9301-4622-B07F-DCDB7709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EE0B-5839-4879-A6B0-AE213495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895F-9C3E-4DE4-AEE1-1B000F0D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8694-9738-4F51-B4D3-4B73CF937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BAD7-C8A1-4562-A8E6-F7F8605D1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49B3-6D4A-4EDE-8964-EF65F856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504E-8169-4360-BA93-0FB536DC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43EB-EA82-4B50-832D-12443598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91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BB6A-3E7F-4916-82BC-6AED626D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2837-63DA-4F74-AA7B-43114789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2EE7-F8E9-409A-9C5A-B0CF4C88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D375-E245-4DE3-9CEA-05659CE4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2800-309E-4377-BEAB-FE847D56326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676D-7CBB-43DA-8039-6EA5C0D63B9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otana.com/educacion-vial/se&#241;ales/Foto%20grande%20052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itographics.com/enciclog/trafico/carriles/source/16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itographics.com/enciclog/trafico/peligro/source/8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foto, coche adelantando camión fuera de poblado, sin saber si la calzada es de sentido único)</a:t>
            </a:r>
            <a:br>
              <a:rPr sz="18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Este adelantamiento tiene mas peligro que los norma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, tiene los peligros habitua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, el vehículo voluminoso puede no dejarte ver a un peatón que cruce la calz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, porque el vehículo voluminoso puede hacer de pantalla y crear distintas ráfagas de v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1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3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Ante esta señal que debe usted hac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era la velocidad, llegando a detenerse si fuera necesari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tenerse siemp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Aumentar la veloc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33336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1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Ante un paso de peatones usted deb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Pasar rápido si no hay peaton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erar la veloc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Detenerse siemp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53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 usted aprecia que va a ser adelantado, tiene la obligación de</a:t>
            </a:r>
            <a:r>
              <a:rPr b="1" lang="en-US" sz="5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Desplazarse al arc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minuir la veloc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No modificar su veloc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1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76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foto un carril adicional, vehiculo amarillo circula por el arcen sin luces)</a:t>
            </a:r>
            <a:br>
              <a:rPr sz="18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Circula correctamente el vehículo amarill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S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, debería llevar las luces de cru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) No, no debería circular por el arc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1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99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 su intención es girar a la derecha, en una intersección, ¿cuándo deberá apagar los indicadores de direcció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No hace falta se apagan sol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n pronto haya adquirido la nueva trayecto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Pasado treinta metros de la intersec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22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 la carga no le cabe en el maletero, ¿puede circular con el portón trasero abier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Si, señalizado reglamentariamen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, siempre que la carga no sobresalga mas de un 10% de la longitud del vehicu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45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i observa que sus neumáticos se desgastan más de lo normal, especialmente en los laterales, ¿es correcta la presión de inflado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Sí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, es inferior a la d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No, es superior a la d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1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68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 la calzada está helada, ¿por cuánto se ve multiplicada la distancia de frenad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Por d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 cuat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Por di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91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Aumenta el consumo de combustible al incrementar la velocid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Sí, porque crece la resistencia del ai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, disminuy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El consumo de combustible no se ve afectado por la veloc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1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14" dur="20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foto carril bici)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Puede un automóvil o motocicleta utilizar este carri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Sólo las motocicleta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, sólo las bicicle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Sí, pueden utilizar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37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Qué significa esta señ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ril especial para vehículos especiales que se bifurc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zada con tres carriles en el que el de la derecha se bifurcara para dicho sent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orporación de un carril por la derech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333360"/>
            <a:ext cx="1944720" cy="20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6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abiendo que ésta es una vía de un solo sentido, la señal de la imagen está colocada a la parte derecha, ¿qué prohíb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La parada en la parte derecha de la calzad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estacionamiento y la parada en toda la v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El estacionamiento y la parada en la parte derecha de la calz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" descr="Parada y estacionamiento prohibido"/>
          <p:cNvPicPr/>
          <p:nvPr/>
        </p:nvPicPr>
        <p:blipFill>
          <a:blip r:embed="rId1"/>
          <a:stretch/>
        </p:blipFill>
        <p:spPr>
          <a:xfrm>
            <a:off x="6948360" y="333360"/>
            <a:ext cx="1905120" cy="189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10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60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foto: panel azul oscuro con dos cristales de hielo)</a:t>
            </a:r>
            <a:br>
              <a:rPr sz="1800"/>
            </a:b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uando el panel de la imagen acompaña a una señal, esta se refiere a circunstancias de …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Agua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iel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Nie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1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83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Qué peligro indica esta señal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Una intersección o tramo regulada por semáforos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 poblado donde todas las intersecciones están reguladas por semáfor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Que el siguiente semáforo está averi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333360"/>
            <a:ext cx="1944720" cy="19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1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06" dur="2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La señal indica un lugar acondicionado para…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Carril para autobuses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arcamiento para vehículos pesad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La parada de autobu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" descr="S-19.eps"/>
          <p:cNvPicPr/>
          <p:nvPr/>
        </p:nvPicPr>
        <p:blipFill>
          <a:blip r:embed="rId1"/>
          <a:stretch/>
        </p:blipFill>
        <p:spPr>
          <a:xfrm>
            <a:off x="7308720" y="333360"/>
            <a:ext cx="127656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1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29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foto: vehículo efectuando cambio de sentido) </a:t>
            </a:r>
            <a:br>
              <a:rPr sz="18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 vehículo de la imagen está dando marcha atrás para completar el cambio de sentido. ¿Es correc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El cambio de sentido es una maniobra prohibid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í,  es corre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No debería hacerlo si necesita usar la marcha atr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1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52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foto, varios ciclistas circulando de dos en dos en paralelo por el arcen)</a:t>
            </a:r>
            <a:br>
              <a:rPr sz="18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Circulan correctamente estos ciclist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, deberían ir de uno en u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o, no deberían ir por el arc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9" dur="2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Por donde deben atravesar los peatones las gloriet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 la perpendicular de la ví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 el camino mas cor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ben rodear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2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 usted pretende girar a la izquierda en una glorieta, ¿por donde debe pas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dear el obstáculo por la derech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 la derecha o la izquierda del obstáculo indiferentem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 diag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5" dur="2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Es obligatorio llevar chaleco reflectante en el vehícul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, debe estar a mano en el interior del habitácu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, siendo suficiente que vaya en el malet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8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semáforo rojo al otro lado de una intersección)</a:t>
            </a:r>
            <a:br>
              <a:rPr sz="16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Si usted pretende ir de frente, donde deberá detenerse para cumplir con el semáforo en roj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cima del paso de cebr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tes de la segunda línea de deten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 la primera línea de detención continua (antes de la intersecció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1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semáforo rojo al otro lado de una intersección)</a:t>
            </a:r>
            <a:br>
              <a:rPr sz="1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Si su intención es girar a la derecha, deberá detenerse en cumplimiento del semáforo roj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S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84" dur="2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Qué deberá hacer con un accidentado, que presenta síntomas de asfix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acticar la respiración artificial inmediatamen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irar los obstáculos de las vías respirator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Darle de be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07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7:20:44Z</dcterms:created>
  <dc:creator>Auto02</dc:creator>
  <dc:description/>
  <dc:language>en-US</dc:language>
  <cp:lastModifiedBy>AutoDespacho</cp:lastModifiedBy>
  <dcterms:modified xsi:type="dcterms:W3CDTF">2008-06-13T15:04:23Z</dcterms:modified>
  <cp:revision>50</cp:revision>
  <dc:subject/>
  <dc:title>¿Puede un menor de 12 años que mide 1,40 ir en asiento delantero?</dc:title>
</cp:coreProperties>
</file>