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1E6-E99B-42FA-BC4A-5ED689AD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76F-30F7-464B-B78D-D0554521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46E-CDDC-40E1-86E7-BCBAA8BE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B12-3F3A-4E39-A1CE-111ECD61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9872-A7E1-43ED-BA91-B62EA2C3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34E8-DAD8-423D-A3C9-197D06F5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9CA8-8FED-4F4C-B24D-95C6C6CE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F39D-8E6A-4BBB-B0EF-378F6114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45D8-D214-4725-82FB-D6777C4A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40D-FD3F-4EAF-B306-21EAC8B0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9B79-0447-4AB0-AE9E-F3F6D6E7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877-5B8C-4BD0-B384-D7ECED5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7455-9B5C-44B3-871E-6339BCB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12C-30AC-4B8B-9BC3-CBBCABB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51DB-6CBC-4DFD-96AD-BC3CFD4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5D01-B5A4-459C-8E4A-FD18C5C7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0637-92E4-48E8-AAD1-B2171855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FDA-8545-4965-8775-CFB8BC92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050-CF94-4FB1-91B8-F7DC6372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7F3-9D3C-4DD9-A1AE-117E8A49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02A-7567-4A02-8148-9D654ABD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C4E-4584-4B91-9811-64D9E7CA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209-D70F-45BA-8CE8-B51E072B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2AD-720B-4CDB-9EC2-66694A5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A469-8875-4C13-BEC0-B0422951441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1A3D-EE15-48BB-8A48-0222168C86E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tana.com/educacion-vial/se&#241;ales/Foto%20grande%20052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carriles/source/16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peligro/source/8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, coche adelantando camión fuera de poblado, sin saber si la calzada es de sentido único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te adelantamiento tiene mas peligro que los norm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tiene los peligros habitu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el vehículo voluminoso puede no dejarte ver a un peatón que cruc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porque el vehículo voluminoso puede hacer de pantalla y crear distintas ráfagas de v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esta señal que debe usted ha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 la velocidad, llegando a detenerse si fuera neces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Aument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un paso de peatones usted de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asar rápido si no hay peat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aprecia que va a ser adelantado, tiene la obligación de</a:t>
            </a:r>
            <a:r>
              <a:rPr b="1" lang="en-US" sz="5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Desplazarse al arc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minui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modificar su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 un carril adicional, vehiculo amarillo circula por el arcen sin luces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 correctamente el vehículo amaril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 llevar las luces de cr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No, no debería circula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 su intención es girar a la derecha, en una intersección, ¿cuándo deberá apagar los indicadores de direcció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No hace falta se apagan so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 pronto haya adquirido la nueva trayec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asado treinta metros de la inters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rga no le cabe en el maletero, ¿puede circular con el portón trasero abi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, señalizado reglamentari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mpre que la carga no sobresalga mas de un 10% de la longitud del vehi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i observa que sus neumáticos se desgastan más de lo normal, especialmente en los laterales, ¿es correcta la presión de inflad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es inf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, es sup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lzada está helada, ¿por cuánto se ve multiplicada la distancia de frena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or d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cua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or d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umenta el consumo de combustible al incrementar la velocid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, porque crece la resistencia del ai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isminu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consumo de combustible no se ve afectado po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 carril bici)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uede un automóvil o motocicleta utilizar este carr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ólo las motocicle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sólo las bicic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Sí, pueden utilizar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significa esta señ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l especial para vehículos especiales que se bifur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zada con tres carriles en el que el de la derecha se bifurcara para dicho sen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rporación de un carril por la dere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biendo que ésta es una vía de un solo sentido, la señal de la imagen está colocada a la parte derecha, ¿qué prohíb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estacionamiento y la parada en toda la v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estacionamiento y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Parada y estacionamiento prohibido"/>
          <p:cNvPicPr/>
          <p:nvPr/>
        </p:nvPicPr>
        <p:blipFill>
          <a:blip r:embed="rId1"/>
          <a:stretch/>
        </p:blipFill>
        <p:spPr>
          <a:xfrm>
            <a:off x="6948360" y="333360"/>
            <a:ext cx="19051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panel azul oscuro con dos cristales de hielo)</a:t>
            </a:r>
            <a:br>
              <a:rPr sz="1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uando el panel de la imagen acompaña a una señal, esta se refiere a circunstancias de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Agu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e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ie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peligro indica esta señal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Una intersección o tramo regulada por semáforo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poblado donde todas las intersecciones están reguladas por semáfo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Que el siguiente semáforo está averi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señal indica un lugar acondicionado para…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Carril para autobus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arcamiento para vehículos pes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La parada de autob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S-19.eps"/>
          <p:cNvPicPr/>
          <p:nvPr/>
        </p:nvPicPr>
        <p:blipFill>
          <a:blip r:embed="rId1"/>
          <a:stretch/>
        </p:blipFill>
        <p:spPr>
          <a:xfrm>
            <a:off x="7308720" y="333360"/>
            <a:ext cx="1276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vehículo efectuando cambio de sentido) 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vehículo de la imagen está dando marcha atrás para completar el cambio de sentido. ¿Es correc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El cambio de sentido es una maniobra prohibi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í,  es corr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debería hacerlo si necesita usar la marcha at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, varios ciclistas circulando de dos en dos en paralelo por el arcen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n correctamente estos ciclis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n ir de uno en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, no deberían i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or donde deben atravesar los peatones las glorie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perpendicular de la v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el camino mas c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en rodea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pretende girar a la izquierda en una glorieta, ¿por donde debe pas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dear el obstáculo por la derech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derecha o la izquierda del obstáculo indiferent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diag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 obligatorio llevar chaleco reflectante en el vehícu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debe estar a mano en el interior del habitá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ndo suficiente que vaya en el malet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Si usted pretende ir de frente, donde deberá detenerse para cumplir con el semáforo en roj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ima del paso de cebr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s de la segunda línea de det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a primera línea de detención continua (antes de la intersec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Si su intención es girar a la derecha, deberá detenerse en cumplimiento del semáforo roj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deberá hacer con un accidentado, que presenta síntomas de asfix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ar la respiración artificial inmediat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irar los obstáculos de las vías respira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arle de be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7:20:44Z</dcterms:created>
  <dc:creator>Auto02</dc:creator>
  <dc:description/>
  <dc:language>en-US</dc:language>
  <cp:lastModifiedBy>AutoDespacho</cp:lastModifiedBy>
  <dcterms:modified xsi:type="dcterms:W3CDTF">2008-06-13T15:04:23Z</dcterms:modified>
  <cp:revision>50</cp:revision>
  <dc:subject/>
  <dc:title>¿Puede un menor de 12 años que mide 1,40 ir en asiento delantero?</dc:title>
</cp:coreProperties>
</file>