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FCB-0A6C-4135-9E73-C499DC4D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79C3-3639-471B-84A1-915D45A1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ADD-89A7-46AC-8602-676006FA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C6C-FDE3-448C-B135-B9116615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9C4A-0B56-4BC5-B9DE-D853CD06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FE2A-DE8F-48C1-B0E0-8CD5A4BB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A4FF-EA60-42CD-A06D-D4DD57D7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7CB3-B722-4DA4-9B4B-87A278A2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80D6-27EE-4BAE-A697-384FC354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DF18-BF22-4BBE-BD49-F1848D00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638F-3AC9-40BE-B196-E2C1A76B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B84E-23E9-4B69-9ED0-7FB82166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1EAB-3C3E-4082-AE25-C91C7B67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94D5-B617-4136-8272-D9908C80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9EE9-2D31-4421-B6B5-16E43D0A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6FAC-E090-4621-979F-8FC0C9B1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F66F-C31B-4BBC-8FB2-4A654467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827-B00D-4098-8129-C00E37F3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0EC-8E10-4BF2-91F5-485144B6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8773-1F2F-46F3-81AE-C6D55177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AEA-61D1-40D8-9CC3-5A29AF6E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C10-5784-4C84-96EF-36802BF0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D666-6B3A-4933-9ABF-2EC76322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BD3-0587-4765-B2C1-28D67276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93D1-C61C-4D9A-91A2-B85E55CDE55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0F7F-8552-445C-AF34-12FA7EE795F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tana.com/educacion-vial/se&#241;ales/Foto%20grande%20052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itographics.com/enciclog/trafico/carriles/source/16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itographics.com/enciclog/trafico/peligro/source/8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, coche adelantando camión fuera de poblado, sin saber si la calzada es de sentido único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Este adelantamiento tiene mas peligro que los norm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tiene los peligros habitu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el vehículo voluminoso puede no dejarte ver a un peatón que cruce la cal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porque el vehículo voluminoso puede hacer de pantalla y crear distintas ráfagas de v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nte esta señal que debe usted ha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ra la velocidad, llegando a detenerse si fuera necesar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enerse siemp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Aumenta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nte un paso de peatones usted de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Pasar rápido si no hay peat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ra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Detenerse siemp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usted aprecia que va a ser adelantado, tiene la obligación de</a:t>
            </a:r>
            <a:r>
              <a:rPr b="1" lang="en-US" sz="5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Desplazarse al arc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minui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 modificar su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to un carril adicional, vehiculo amarillo circula por el arcen sin luces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Circula correctamente el vehículo amaril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ebería llevar las luces de cr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 No, no debería circular por el arc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 su intención es girar a la derecha, en una intersección, ¿cuándo deberá apagar los indicadores de direcció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No hace falta se apagan so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 pronto haya adquirido la nueva trayec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Pasado treinta metros de la inters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la carga no le cabe en el maletero, ¿puede circular con el portón trasero abier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, señalizado reglamentariame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siempre que la carga no sobresalga mas de un 10% de la longitud del vehic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i observa que sus neumáticos se desgastan más de lo normal, especialmente en los laterales, ¿es correcta la presión de inflado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í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es inferior a la d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, es superior a la d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la calzada está helada, ¿por cuánto se ve multiplicada la distancia de frena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Por d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cua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Por di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umenta el consumo de combustible al incrementar la velocid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í, porque crece la resistencia del ai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isminu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El consumo de combustible no se ve afectado po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 carril bici)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Puede un automóvil o motocicleta utilizar este carr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ólo las motociclet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sólo las bicicl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Sí, pueden utilizar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significa esta señ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l especial para vehículos especiales que se bifur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zada con tres carriles en el que el de la derecha se bifurcara para dicho sen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rporación de un carril por la derec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194472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biendo que ésta es una vía de un solo sentido, la señal de la imagen está colocada a la parte derecha, ¿qué prohíb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La parada en la parte derecha de la calzad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estacionamiento y la parada en toda la v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El estacionamiento y la parada en la parte derecha de la cal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Parada y estacionamiento prohibido"/>
          <p:cNvPicPr/>
          <p:nvPr/>
        </p:nvPicPr>
        <p:blipFill>
          <a:blip r:embed="rId1"/>
          <a:stretch/>
        </p:blipFill>
        <p:spPr>
          <a:xfrm>
            <a:off x="6948360" y="333360"/>
            <a:ext cx="190512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: panel azul oscuro con dos cristales de hielo)</a:t>
            </a:r>
            <a:br>
              <a:rPr sz="1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uando el panel de la imagen acompaña a una señal, esta se refiere a circunstancias de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Agu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e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ie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83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peligro indica esta señal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Una intersección o tramo regulada por semáforo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 poblado donde todas las intersecciones están reguladas por semáfor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Que el siguiente semáforo está averi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194472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6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señal indica un lugar acondicionado para…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Carril para autobuse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arcamiento para vehículos pes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La parada de autob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S-19.eps"/>
          <p:cNvPicPr/>
          <p:nvPr/>
        </p:nvPicPr>
        <p:blipFill>
          <a:blip r:embed="rId1"/>
          <a:stretch/>
        </p:blipFill>
        <p:spPr>
          <a:xfrm>
            <a:off x="7308720" y="333360"/>
            <a:ext cx="12765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2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: vehículo efectuando cambio de sentido) 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vehículo de la imagen está dando marcha atrás para completar el cambio de sentido. ¿Es correc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El cambio de sentido es una maniobra prohibid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í,  es corr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 debería hacerlo si necesita usar la marcha atr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52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to, varios ciclistas circulando de dos en dos en paralelo por el arcen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Circulan correctamente estos ciclist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eberían ir de uno en 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, no deberían ir por el arc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Por donde deben atravesar los peatones las gloriet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la perpendicular de la ví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el camino mas cor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en rodea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usted pretende girar a la izquierda en una glorieta, ¿por donde debe pas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dear el obstáculo por la derech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la derecha o la izquierda del obstáculo indiferente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diag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Es obligatorio llevar chaleco reflectante en el vehícu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debe estar a mano en el interior del habitác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siendo suficiente que vaya en el malet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emáforo rojo al otro lado de una intersección)</a:t>
            </a:r>
            <a:br>
              <a:rPr sz="16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Si usted pretende ir de frente, donde deberá detenerse para cumplir con el semáforo en roj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ima del paso de cebr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s de la segunda línea de deten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la primera línea de detención continua (antes de la intersecc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emáforo rojo al otro lado de una intersección)</a:t>
            </a:r>
            <a:br>
              <a:rPr sz="1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Si su intención es girar a la derecha, deberá detenerse en cumplimiento del semáforo roj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deberá hacer con un accidentado, que presenta síntomas de asfix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ar la respiración artificial inmediatame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irar los obstáculos de las vías respirato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Darle de be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7:20:44Z</dcterms:created>
  <dc:creator>Auto02</dc:creator>
  <dc:description/>
  <dc:language>en-US</dc:language>
  <cp:lastModifiedBy>AutoDespacho</cp:lastModifiedBy>
  <dcterms:modified xsi:type="dcterms:W3CDTF">2008-06-13T15:04:23Z</dcterms:modified>
  <cp:revision>50</cp:revision>
  <dc:subject/>
  <dc:title>¿Puede un menor de 12 años que mide 1,40 ir en asiento delantero?</dc:title>
</cp:coreProperties>
</file>