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CF68-7446-43F4-8719-DA3B1702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837B-9F04-42A6-A201-1660EBFE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2492-F488-486C-B308-40723546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64A4-36D2-4850-8CCF-0CED90A25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BE92-0517-4BF9-B3DC-7A40C269C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FD4F-297D-4993-AE09-A7D78245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E2A0-8675-4CDC-80AB-E9BC848D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73A5-069C-4C53-A675-FD550EB3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23D4-4E10-4E29-99D6-48263CDB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6912-FDFB-4F4C-A881-B941FE00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F989-73F1-4508-8772-A2EA3510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CAD2-5E8F-4A00-9719-BBE80225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AB59-A6ED-4BB4-9AEF-35016260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BFDC-A22A-4EB7-8820-1EBC3FBD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4E16-18A0-47C5-9627-FF041548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EB74-005D-4939-A0B9-1290F0ED2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4196-8661-4E88-AA8E-B48998C1F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B8BE-51EF-4113-ADE2-7C06E48E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47C3-8D3D-4CA2-A438-B83D5884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A417-1A1E-453D-9BDA-1A690725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1749-2BF9-4E75-B12C-59CAAD5F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0326-8534-4962-AAA3-16CC34BD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93C3-B47E-43CB-9595-82C29614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D97C-784C-4B02-B186-05FCF2B8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E9AD-D7BE-41C1-A300-994C6433BD1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9D07-9D24-4CBB-AC98-94AAD15B3C1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otana.com/educacion-vial/se&#241;ales/Foto%20grande%20052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itographics.com/enciclog/trafico/carriles/source/16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itographics.com/enciclog/trafico/peligro/source/8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foto, coche adelantando camión fuera de poblado, sin saber si la calzada es de sentido único)</a:t>
            </a:r>
            <a:br>
              <a:rPr sz="18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Este adelantamiento tiene mas peligro que los norma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, tiene los peligros habitua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, el vehículo voluminoso puede no dejarte ver a un peatón que cruce la calz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, porque el vehículo voluminoso puede hacer de pantalla y crear distintas ráfagas de v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1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3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Ante esta señal que debe usted hac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ra la velocidad, llegando a detenerse si fuera necesari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tenerse siemp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Aumentar la veloc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33336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Ante un paso de peatones usted deb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Pasar rápido si no hay peaton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rar la veloc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Detenerse siemp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53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 usted aprecia que va a ser adelantado, tiene la obligación de</a:t>
            </a:r>
            <a:r>
              <a:rPr b="1" lang="en-US" sz="5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Desplazarse al arc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minuir la veloc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No modificar su veloc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76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foto un carril adicional, vehiculo amarillo circula por el arcen sin luces)</a:t>
            </a:r>
            <a:br>
              <a:rPr sz="18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Circula correctamente el vehículo amarill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S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, debería llevar las luces de cru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) No, no debería circular por el arc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99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 su intención es girar a la derecha, en una intersección, ¿cuándo deberá apagar los indicadores de direcció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No hace falta se apagan sol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n pronto haya adquirido la nueva trayecto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Pasado treinta metros de la interse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22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 la carga no le cabe en el maletero, ¿puede circular con el portón trasero abier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Si, señalizado reglamentariamen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, siempre que la carga no sobresalga mas de un 10% de la longitud del vehicu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45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i observa que sus neumáticos se desgastan más de lo normal, especialmente en los laterales, ¿es correcta la presión de inflado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Sí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, es inferior a la d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No, es superior a la d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1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68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 la calzada está helada, ¿por cuánto se ve multiplicada la distancia de frenad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Por d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 cuat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Por di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91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Aumenta el consumo de combustible al incrementar la velocid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Sí, porque crece la resistencia del ai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, disminuy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El consumo de combustible no se ve afectado por la veloc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1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14" dur="20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foto carril bici)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Puede un automóvil o motocicleta utilizar este carri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Sólo las motocicleta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, sólo las bicicle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Sí, pueden utilizar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37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Qué significa esta señ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il especial para vehículos especiales que se bifurc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zada con tres carriles en el que el de la derecha se bifurcara para dicho sent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orporación de un carril por la derech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333360"/>
            <a:ext cx="194472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6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abiendo que ésta es una vía de un solo sentido, la señal de la imagen está colocada a la parte derecha, ¿qué prohíb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La parada en la parte derecha de la calzad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estacionamiento y la parada en toda la v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El estacionamiento y la parada en la parte derecha de la calz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" descr="Parada y estacionamiento prohibido"/>
          <p:cNvPicPr/>
          <p:nvPr/>
        </p:nvPicPr>
        <p:blipFill>
          <a:blip r:embed="rId1"/>
          <a:stretch/>
        </p:blipFill>
        <p:spPr>
          <a:xfrm>
            <a:off x="6948360" y="333360"/>
            <a:ext cx="1905120" cy="189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10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60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foto: panel azul oscuro con dos cristales de hielo)</a:t>
            </a:r>
            <a:br>
              <a:rPr sz="1800"/>
            </a:b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uando el panel de la imagen acompaña a una señal, esta se refiere a circunstancias de …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Agua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el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Nie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83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Qué peligro indica esta señal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Una intersección o tramo regulada por semáforo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 poblado donde todas las intersecciones están reguladas por semáfor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Que el siguiente semáforo está averi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333360"/>
            <a:ext cx="1944720" cy="19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1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06" dur="2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La señal indica un lugar acondicionado para…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Carril para autobuse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arcamiento para vehículos pesad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La parada de autobu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" descr="S-19.eps"/>
          <p:cNvPicPr/>
          <p:nvPr/>
        </p:nvPicPr>
        <p:blipFill>
          <a:blip r:embed="rId1"/>
          <a:stretch/>
        </p:blipFill>
        <p:spPr>
          <a:xfrm>
            <a:off x="7308720" y="333360"/>
            <a:ext cx="127656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1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29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foto: vehículo efectuando cambio de sentido) </a:t>
            </a:r>
            <a:br>
              <a:rPr sz="18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 vehículo de la imagen está dando marcha atrás para completar el cambio de sentido. ¿Es correc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El cambio de sentido es una maniobra prohibid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í,  es corre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No debería hacerlo si necesita usar la marcha atr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1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52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foto, varios ciclistas circulando de dos en dos en paralelo por el arcen)</a:t>
            </a:r>
            <a:br>
              <a:rPr sz="18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Circulan correctamente estos ciclist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, deberían ir de uno en u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o, no deberían ir por el arc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9" dur="2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Por donde deben atravesar los peatones las gloriet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 la perpendicular de la ví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 el camino mas cor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ben rodear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2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i usted pretende girar a la izquierda en una glorieta, ¿por donde debe pas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dear el obstáculo por la derech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 la derecha o la izquierda del obstáculo indiferentem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 diag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Es obligatorio llevar chaleco reflectante en el vehícul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, debe estar a mano en el interior del habitácu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, siendo suficiente que vaya en el malet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8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semáforo rojo al otro lado de una intersección)</a:t>
            </a:r>
            <a:br>
              <a:rPr sz="16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Si usted pretende ir de frente, donde deberá detenerse para cumplir con el semáforo en roj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cima del paso de cebr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tes de la segunda línea de deten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 la primera línea de detención continua (antes de la intersecció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1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semáforo rojo al otro lado de una intersección)</a:t>
            </a:r>
            <a:br>
              <a:rPr sz="1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Si su intención es girar a la derecha, deberá detenerse en cumplimiento del semáforo roj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S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84" dur="2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5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Qué deberá hacer con un accidentado, que presenta síntomas de asfix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acticar la respiración artificial inmediatamen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>
            <a:off x="1403280" y="393372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irar los obstáculos de las vías respirato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371600" y="501336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 Darle de be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48360" y="333360"/>
            <a:ext cx="1944720" cy="197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07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7:20:44Z</dcterms:created>
  <dc:creator>Auto02</dc:creator>
  <dc:description/>
  <dc:language>en-US</dc:language>
  <cp:lastModifiedBy>AutoDespacho</cp:lastModifiedBy>
  <dcterms:modified xsi:type="dcterms:W3CDTF">2008-06-13T15:04:23Z</dcterms:modified>
  <cp:revision>50</cp:revision>
  <dc:subject/>
  <dc:title>¿Puede un menor de 12 años que mide 1,40 ir en asiento delantero?</dc:title>
</cp:coreProperties>
</file>