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A144-6FDA-402F-9B8A-6F88A745C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01F6-2AA1-4989-9557-ACD3133C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CFA8-35E8-4E80-B3D6-05C5844A5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EF73-63F9-43AB-87B8-D5768F5E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1B27-50DA-4B09-8E6E-5B958D1D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EDDA-B77D-4D7F-96FE-8F897379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D920-68E4-4A8F-AAEB-72FAC816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1D84-BC11-47D5-B48E-78F4C276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A5A4-3CEE-41F9-8CCF-E546E802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5F02-A79F-49AF-8EBA-3C3A4630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52DD-5D2C-4221-802B-AA83DF8B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0379-08C7-4D00-9B3A-95E20E74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F04E-236B-4F82-8CD0-4BCB9849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0FF8-3975-4BBB-9DCB-C9334EEF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2E23-AEF3-4E4D-A6DC-05C192E2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4EC7-1C32-4787-AF68-63E0B062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597B-C488-4911-AFB5-B8CFB116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6BB7-EC76-45AE-816F-9073A017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15E3-CD34-4B57-B0F7-0BCA43D6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A61C-573E-4924-A5D8-A1A4246E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07F7-3D0C-4E6C-98E4-1536D132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73A3-9AB4-44A3-88DD-248A94AD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4BC5-BF3E-49AE-8EBC-6C6459FC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A229-257F-4307-9E84-39B7C247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5678-A497-432D-B99F-1243CFABDEB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5338-A45A-4DFD-9FD0-1B9981A71AF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otana.com/educacion-vial/se&#241;ales/Foto%20grande%20052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itographics.com/enciclog/trafico/carriles/source/16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itographics.com/enciclog/trafico/peligro/source/8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foto, coche adelantando camión fuera de poblado, sin saber si la calzada es de sentido único)</a:t>
            </a:r>
            <a:br>
              <a:rPr sz="18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Este adelantamiento tiene mas peligro que los norma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, tiene los peligros habitua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, el vehículo voluminoso puede no dejarte ver a un peatón que cruce la calz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, porque el vehículo voluminoso puede hacer de pantalla y crear distintas ráfagas de v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1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3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Ante esta señal que debe usted hac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ra la velocidad, llegando a detenerse si fuera necesari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tenerse siemp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Aumentar la veloc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33336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Ante un paso de peatones usted deb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Pasar rápido si no hay peaton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rar la veloc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Detenerse siemp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3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 usted aprecia que va a ser adelantado, tiene la obligación de</a:t>
            </a:r>
            <a:r>
              <a:rPr b="1" lang="en-US" sz="5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Desplazarse al arc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minuir la veloc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No modificar su veloc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76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foto un carril adicional, vehiculo amarillo circula por el arcen sin luces)</a:t>
            </a:r>
            <a:br>
              <a:rPr sz="18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Circula correctamente el vehículo amarill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S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, debería llevar las luces de cr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) No, no debería circular por el arc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99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 su intención es girar a la derecha, en una intersección, ¿cuándo deberá apagar los indicadores de direcció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No hace falta se apagan sol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n pronto haya adquirido la nueva trayecto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Pasado treinta metros de la interse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22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 la carga no le cabe en el maletero, ¿puede circular con el portón trasero abier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Si, señalizado reglamentariamen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, siempre que la carga no sobresalga mas de un 10% de la longitud del vehicu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45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i observa que sus neumáticos se desgastan más de lo normal, especialmente en los laterales, ¿es correcta la presión de inflado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Sí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, es inferior a la d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No, es superior a la d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1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68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 la calzada está helada, ¿por cuánto se ve multiplicada la distancia de frenad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Por d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 cuat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Por di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91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Aumenta el consumo de combustible al incrementar la velocid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Sí, porque crece la resistencia del ai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, disminuy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El consumo de combustible no se ve afectado por la veloc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1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14" dur="20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foto carril bici)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Puede un automóvil o motocicleta utilizar este carri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Sólo las motocicleta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, sólo las bicicle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Sí, pueden utilizar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37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Qué significa esta señ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il especial para vehículos especiales que se bifurc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zada con tres carriles en el que el de la derecha se bifurcara para dicho sent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orporación de un carril por la derech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333360"/>
            <a:ext cx="194472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6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abiendo que ésta es una vía de un solo sentido, la señal de la imagen está colocada a la parte derecha, ¿qué prohíb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La parada en la parte derecha de la calzad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estacionamiento y la parada en toda la v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El estacionamiento y la parada en la parte derecha de la calz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" descr="Parada y estacionamiento prohibido"/>
          <p:cNvPicPr/>
          <p:nvPr/>
        </p:nvPicPr>
        <p:blipFill>
          <a:blip r:embed="rId1"/>
          <a:stretch/>
        </p:blipFill>
        <p:spPr>
          <a:xfrm>
            <a:off x="6948360" y="333360"/>
            <a:ext cx="1905120" cy="189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10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60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foto: panel azul oscuro con dos cristales de hielo)</a:t>
            </a:r>
            <a:br>
              <a:rPr sz="1800"/>
            </a:b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uando el panel de la imagen acompaña a una señal, esta se refiere a circunstancias de 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Agu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el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Nie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83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Qué peligro indica esta señal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Una intersección o tramo regulada por semáforo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 poblado donde todas las intersecciones están reguladas por semáfor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Que el siguiente semáforo está averi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333360"/>
            <a:ext cx="1944720" cy="19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1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06" dur="2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La señal indica un lugar acondicionado para…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Carril para autobuse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arcamiento para vehículos pesad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La parada de autobu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" descr="S-19.eps"/>
          <p:cNvPicPr/>
          <p:nvPr/>
        </p:nvPicPr>
        <p:blipFill>
          <a:blip r:embed="rId1"/>
          <a:stretch/>
        </p:blipFill>
        <p:spPr>
          <a:xfrm>
            <a:off x="7308720" y="333360"/>
            <a:ext cx="127656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1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29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foto: vehículo efectuando cambio de sentido) </a:t>
            </a:r>
            <a:br>
              <a:rPr sz="18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 vehículo de la imagen está dando marcha atrás para completar el cambio de sentido. ¿Es correc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El cambio de sentido es una maniobra prohibid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í,  es corre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No debería hacerlo si necesita usar la marcha atr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1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52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foto, varios ciclistas circulando de dos en dos en paralelo por el arcen)</a:t>
            </a:r>
            <a:br>
              <a:rPr sz="18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Circulan correctamente estos ciclist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, deberían ir de uno en u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o, no deberían ir por el arc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9" dur="2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Por donde deben atravesar los peatones las gloriet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 la perpendicular de la ví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 el camino mas cor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ben rodear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2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 usted pretende girar a la izquierda en una glorieta, ¿por donde debe pas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dear el obstáculo por la derech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 la derecha o la izquierda del obstáculo indiferentem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 diag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Es obligatorio llevar chaleco reflectante en el vehícul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, debe estar a mano en el interior del habitácu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, siendo suficiente que vaya en el malet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8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semáforo rojo al otro lado de una intersección)</a:t>
            </a:r>
            <a:br>
              <a:rPr sz="16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Si usted pretende ir de frente, donde deberá detenerse para cumplir con el semáforo en roj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cima del paso de cebr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tes de la segunda línea de deten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 la primera línea de detención continua (antes de la intersecció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1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semáforo rojo al otro lado de una intersección)</a:t>
            </a:r>
            <a:br>
              <a:rPr sz="1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Si su intención es girar a la derecha, deberá detenerse en cumplimiento del semáforo roj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S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84" dur="2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Qué deberá hacer con un accidentado, que presenta síntomas de asfix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cticar la respiración artificial inmediatamen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irar los obstáculos de las vías respirato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Darle de be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07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7:20:44Z</dcterms:created>
  <dc:creator>Auto02</dc:creator>
  <dc:description/>
  <dc:language>en-US</dc:language>
  <cp:lastModifiedBy>AutoDespacho</cp:lastModifiedBy>
  <dcterms:modified xsi:type="dcterms:W3CDTF">2008-06-13T15:04:23Z</dcterms:modified>
  <cp:revision>50</cp:revision>
  <dc:subject/>
  <dc:title>¿Puede un menor de 12 años que mide 1,40 ir en asiento delantero?</dc:title>
</cp:coreProperties>
</file>